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9E81-E36C-4AF6-BC53-2DF67CA1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1003-3658-4E90-847B-68A0670A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61A5-DC01-4C17-9229-E6973ED4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1098-DD5C-44A4-9AE9-6793AAA0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CB96-6F9E-4DB2-8C30-6C87795D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7880-2DB1-43DE-A5F4-F3EBCA91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B4ED-CCB9-4B4D-851E-0E856D42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7520-61FF-454A-B12C-3CC8F5E4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4D96-61FC-4F3F-804A-7774EE07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1426-7A12-4ED5-B182-CF05FCF7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3A29-3CDB-49B7-A23F-EE1E904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225B-FD11-40C9-9DFE-33D9887D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E06B-AE7A-4A31-BE9F-C5E48A83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3782-99EF-47E8-9420-A091FFE2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569C-9624-407E-A3BC-2E1E1070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A25D-08EC-4EEE-8104-0552ECB8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4C79-BE20-4759-AE52-7301E7E2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F483-8E76-452F-BE1F-003F56EE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F78C4-3FD7-4BE0-82A6-5CD3FC8B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7BD2-ECE3-4608-92AB-47540217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C686-EF78-417D-BE8B-FEFEE8D0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370B-C8FE-4F33-8002-674E18B9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1AB9-D7A8-44AB-9825-3D55B5C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AA65-52DA-4CCA-929F-58095DE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43F4-D829-45F7-8064-E6EF5C9F739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EFC2-DAA8-4287-9F65-C2DA2D12BEE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105920"/>
            <a:ext cx="892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9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38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от има в погледа към Хрис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зове: „Ела при Мен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емни богатства са суета, съкровище е сам Исус за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гледни към Голго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живот има в Хрис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астие, мир и веселб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огледа към Голго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нимавам във святите Му слова, вярвам във обещанията; победата ми е гото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гледам на Спаса страдания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гледни към Голго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живот има в Хрис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астие, мир и веселб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огледа към Голго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Когато поглеждам аз към Хрис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мой Спасител от грех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ва ми сила да се спас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трашните примки на Сатан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гледни към Голго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живот има в Хрис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астие, мир и веселб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огледа към Голго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10-21T16:54:55Z</dcterms:modified>
  <cp:revision>70</cp:revision>
  <dc:subject/>
  <dc:title>Slide 1</dc:title>
</cp:coreProperties>
</file>